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B038-82BB-4E5A-A64B-573D8A2C7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05EC-D105-4F6E-B5C9-8D70D0E4E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F6F5-5650-480D-869A-7B0DEB284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DD84-9336-4B93-A8A9-3FAC184AB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67F91-9E13-41D6-B89A-1D63DD1D8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DC6F0-28A1-4F05-B3D8-D672FFD45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15357-97A1-4417-B5E5-36DB16DA6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34AF8-9548-4203-8662-778EA052A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5B979-3622-49A4-AF96-41F603CB2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BF661-9B12-4C68-8854-439CC2AFC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E9BAE-E94C-4878-A849-97A4AC1AC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2762-B149-48BE-A044-EAF75F341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BF0F1-AAF5-43A9-9DE7-3AD00A084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F7DCC-2ED2-4568-82D4-61E04E74E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B94C5-3913-4B84-B553-8A59601BC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48778-B97C-4CA4-B107-CE0D3AEE9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8EF13-BA40-457C-B04B-E44859B9F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75D3-EB1F-445F-9423-FEA816C00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F243-9E8F-4452-9528-B9048F5E9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65B5-AAF1-4731-8DF6-EDDF899B7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DFD4-EE23-491C-9CAB-96C8A78E3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0B07-7432-4A13-9265-110EDD41E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C63E-B8A9-447C-B1BE-EDE673837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DE98-A95C-4237-95BA-3A4ACCC57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0E3F0-8128-4861-BB29-C15AAC71A9D0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A528D-118A-45C4-991C-3866E4E25FA6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2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직의 성격과 </a:t>
            </a: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          교사의 역할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비형식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적인 구조에서 허용되지 않는 방식으로 자신을 표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형식적 임무수행이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공식적인 조직의 목적이나 절차가 수정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의 소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취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신 등의 비형식적 구조가 형식적 구조에 영향을 미침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부수적인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르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촉진자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는 촉진자가 되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급에서의 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화된 지식 전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식적인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중재 역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내면화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을 위한 올바른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아실현과 동기부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역할극이 마감되는 것을 인지하는 교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자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품과 전문성 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이상적인 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언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한국교육개발원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교육내용과 방법이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자질도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그러나 봉사와 사명감은 존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성에 기초한 학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심의 교직의 실행력은 곧 바람직한 교사의 자질로 재현될 것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람이 그리운 사회에서 사람만이 희망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이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?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와 교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사와 의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죄인과 인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특징과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의 정신생활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성숙자를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봉사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와 민족에 영향을 미치는 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진보에 중요한 역할을 담당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향상을 도모하기 유리한 직업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을 보는 관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노동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공 봉사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율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직업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비형식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부수적인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급에서의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본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식과 기술을 전달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과정을 조력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평가의 주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평가와 성취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직업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피고용인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경영에서의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장과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부모와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가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다면적인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족관계의 역할을 모두 수행하는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관찰력이 분명하고 정확한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7T01:34:59Z</dcterms:created>
  <dc:creator>XPuser</dc:creator>
  <dc:description/>
  <dc:language>en-US</dc:language>
  <cp:lastModifiedBy>XPuser</cp:lastModifiedBy>
  <dcterms:modified xsi:type="dcterms:W3CDTF">2008-09-17T02:16:16Z</dcterms:modified>
  <cp:revision>6</cp:revision>
  <dc:subject/>
  <dc:title>제 2장 교직의 성격과            교사의 역할</dc:title>
</cp:coreProperties>
</file>